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4949-C7F2-4E35-9162-F652F75C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B4D8-BEDA-4A27-9C62-1A4EBF15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7B4E-D4ED-4EC1-9DCA-A4D0B4B7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637B-74FB-482A-8625-6C49F44B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109B-FB33-4C76-B1E6-20A9ED2B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B2B1-82B5-4594-9562-E5A3D880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C85A-6EB0-446D-901A-7E9DC646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8931-E7A3-4228-AAB8-5770004C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C991-C35E-4E5B-AB3D-4BCBA908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6AB5-76E8-4325-859C-877A6EFB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D6BD-A7B9-48BD-9585-D1EAD574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AC60-D5A8-4F24-8E80-0AC27DDA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94DF-695C-498A-84FF-7CBB0F18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F7D2-D31B-4F1F-9015-C261531E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4D1C-B5B7-4F3A-B808-C9629996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A195-02D7-41F1-893D-D8AFB584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83F8-35BA-4E2D-B8D2-ECAA5B7E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3F4D-BCFF-49AE-8F45-4198F353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653-79D5-480F-85D8-13F8877D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BE6-DA18-4D15-97E2-E372CA2C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C83-8A28-429A-9A44-2DEE996D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B1B-B9BF-417B-89E9-D1506EAA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3898-DE7D-4560-BEA1-07CED411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61CE-B82A-4377-AB22-D35D7E7A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E38E-50D8-4DF3-B99F-59E7F2E3F0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6E11-9CAC-4018-B1E1-7BB6EB6E66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36640" y="1854360"/>
            <a:ext cx="6391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ODCINE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ORÓWNYWANIE ODCINK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22360" y="1967040"/>
            <a:ext cx="7156440" cy="146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3080" y="306864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16280" y="2259000"/>
            <a:ext cx="2655720" cy="5396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37000" y="225900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92720" y="279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36640" y="4643280"/>
            <a:ext cx="639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zęść prostej n, zawartej między punktami A i B nazywamy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dcinki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Odcinek oznaczamy symbolicznie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A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ub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11280" y="1584360"/>
            <a:ext cx="6429240" cy="4305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06640" y="458640"/>
            <a:ext cx="77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skaż na rysunku pary odcinków o równej dług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2000" y="4194000"/>
            <a:ext cx="34920" cy="990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6720" y="4194000"/>
            <a:ext cx="30240" cy="990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1640" y="4103640"/>
            <a:ext cx="0" cy="585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02000" y="4103640"/>
            <a:ext cx="0" cy="585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7000" y="2979720"/>
            <a:ext cx="720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7000" y="4915080"/>
            <a:ext cx="720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02360" y="2664000"/>
            <a:ext cx="21960" cy="63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12000" y="2619360"/>
            <a:ext cx="22320" cy="630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2000" y="4915080"/>
            <a:ext cx="5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02000" y="49150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42000" y="50036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42000" y="396864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32360" y="30621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25290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97360" y="4508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97360" y="39686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37360" y="5003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37360" y="39686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27360" y="26640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6640" y="266400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97720" y="24843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97720" y="30621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7720" y="3968640"/>
            <a:ext cx="5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7720" y="4508640"/>
            <a:ext cx="4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316640" y="48243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37360" y="48243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16640" y="549900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ORÓWNYWANIE ODCINK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6640" y="77328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16640" y="4869000"/>
            <a:ext cx="10350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5543640"/>
            <a:ext cx="1888920" cy="0"/>
          </a:xfrm>
          <a:prstGeom prst="line">
            <a:avLst/>
          </a:prstGeom>
          <a:ln w="15840">
            <a:solidFill>
              <a:srgbClr val="99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6308640"/>
            <a:ext cx="2879640" cy="0"/>
          </a:xfrm>
          <a:prstGeom prst="line">
            <a:avLst/>
          </a:prstGeom>
          <a:ln w="1584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rot="2464200">
            <a:off x="1106280" y="1898640"/>
            <a:ext cx="3509640" cy="3510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81640" y="549900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92720" y="62643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6640" y="62643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0.44809 -0.07199 E">
                                      <p:cBhvr>
                                        <p:cTn id="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809 -0.07199 L 0.44809 0.01991 E">
                                      <p:cBhvr>
                                        <p:cTn id="1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809 0.01991 L 0.44809 0.13148 E">
                                      <p:cBhvr>
                                        <p:cTn id="14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006640" y="2438280"/>
            <a:ext cx="585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Verdana"/>
              </a:rPr>
              <a:t>Ćwiczenie: Narysuj dowolne trzy odcinki i za pomocą cyrkla porównaj ich długoś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8T21:30:50Z</dcterms:modified>
  <cp:revision>16</cp:revision>
  <dc:subject/>
  <dc:title>Slajd 1</dc:title>
</cp:coreProperties>
</file>